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AEA-367E-49A7-A0AF-D9A9779E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9A7-B3B6-4F80-A551-1ECD4558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1EB89-7D61-4E36-A7A7-8B6B642A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88390-3E18-4B2D-A58C-D312D9F3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CB989-6738-4FF7-9691-026BCC24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13FA8-A140-4B04-BDF0-1C937B33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43870-7111-42E1-9077-76237A87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98E28-850F-49AF-BE36-32190F6B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72546-2E1A-485C-BEA5-201FF8DF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178E0-01A6-43E4-A94F-42184FFB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B59DD-0F45-4A40-B520-2D1518BA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7B546-5426-410F-9B92-FC14FACB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A55-3B1D-4144-BE41-C925F2B2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0E333-9D2E-4A36-B193-991D532B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F4400-BE97-4C04-8243-C2513EA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1710E-8B74-439A-AF7D-B605A5C4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9F8A5-0A7F-43CF-949B-DA9B7BA3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05598-F05F-4ED2-A735-ABD24CF2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7C83B-F27C-4DCF-8C18-803746D3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FC4C0-662C-442D-8915-956EA45A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15E9C-3CC2-4DCB-819B-70B91D42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4A1FF-C9A1-494E-A0FA-9AA6D4E2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9FB07-F6D9-4186-9546-23C4D5E1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DEB-3024-4F05-B432-9FC15872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53E4E-7BF4-4644-9DFF-10CC6E30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43925-DA41-41F9-9F4C-0852BBCA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EC78C-792A-40F0-AB79-FA16CFCB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CFD0D-181F-4634-B2A8-A821EA98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35A4B-E6E0-4A4A-B53B-6B57FC5D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109E4-7EDA-4633-82C2-1688665E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3B22-56DF-4255-AE48-2109F3E1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B38FF-F38B-40F5-8165-442BAD0B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44FAA-45E8-4431-94B4-2EA2AE3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9C9CC-6C89-4B70-A62F-D82E48A8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3C7A-83E3-41C9-B92B-AFA7843F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8D03F-4A31-482B-B48B-91F0DEEF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0E30D-75BD-44AF-8B50-4D94EA93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996F6-FF91-4CB6-A528-D582C224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FD80E-24B6-4FB6-A9D8-E2694379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3A659-EF61-4117-9C59-83DEA666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D1B9D-C187-49F4-BCC9-0CDDE164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5BB7B-C11B-421A-9D4F-90233F97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0E1E1-A6C1-4E7B-A119-7AB781CD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A8285-0983-4612-9CF5-A15CB3D2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C8669-19E5-42DE-9C8A-EFFA98D8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CA6A-EAD9-45E1-AEF0-D02E5BC3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D058B-C911-4F99-9326-72CCA8DA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E6548-B73D-447A-9A22-9FBC2F74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69B53-C8A9-45A5-B74C-DCD628B8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7811A-6E6D-45EE-970B-3ECB31CF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3589F-44FA-4032-9B28-58A00109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C02E5-05E1-4E93-A2C4-84C11193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AB08B-C514-408C-81FF-4CCC7E2D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189C2-12BD-491A-B271-1513092A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01A4D-0069-4FDD-B097-42D86633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3441E-999F-417A-A2CC-B517682C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893C-7A34-420D-A186-284B1D97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A0C69-F165-4329-A962-E2680E4B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D7A60-32B0-424F-8004-C7E5530E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C9544-EAE6-40B2-9CF7-766B589F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A6F51-2A4D-47C1-A70E-23C14EEE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59DA9-9437-4DB2-815B-DF768B7D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D30E1-58C1-4ADD-99A1-D1E81408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0AFB8-7B22-4E37-927F-F74FA9AA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A91E7-B726-4AFA-8F4B-61DEF316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8994D-F0BC-4A07-B5CF-CC653851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332CC-2666-4072-A901-CE34A077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6CEE-496C-4E40-8E26-3CCFAE31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9BEDD-E026-485A-A6A7-8863EC91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2E002-07C9-406F-8472-426DE095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7F22A-08C6-435F-8F98-B73970D3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3A545-1E25-41D8-9E73-B949CA3C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99B65-4AE8-4012-AA0F-1531B1AE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46D01-243B-4B1F-97E1-C8400527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B2B0D-94C6-4C72-946E-01B05FC9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414D6-A9A8-4203-B099-F4EEAEF7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43237-2FCA-4A37-AEB4-4F0828C0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D4353-8694-413A-8D2C-BC1CB0A2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A28D-4A62-4341-AD96-937A2B7B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5D956-3261-4688-81B0-82217508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D5091-8131-48D6-9240-2EA97195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D005F-AD83-43F0-A805-5F3752DF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905DC-1B06-45C0-A55B-3AA69B64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01988-E697-4D5D-95CF-EA6E7E53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A1A07-4F3D-452C-9955-BC094315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A19853-0416-43B2-887D-0723A48A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2905F-391C-4D62-9954-E73808C7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39FA7A-F7EF-4E38-865B-A8BD36E5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CD63A-E93C-43C5-9163-541DE243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F5EF-100D-420D-8CF0-566E4AE1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2FA80-2DEE-4E5A-8E90-48D783E2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45182-9802-43A1-AA38-763D1EA5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CCA12-B65D-4E50-A116-D8ABA68B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36A38-262E-4D87-8956-CCBA5C5E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23425-3752-45DF-8B03-5B98C1C3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83E24-3977-4C74-885C-70C43092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16E93-6C78-4573-9A86-6C728410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22FA0-77B2-49A1-9A86-F54674D3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18504-6CFB-488A-950C-F5A12611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DDC27-6EE8-4E10-9E9B-C1B71E72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BAB0-3BFC-4744-91E1-0C8D9ADC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00790-3F29-431C-94B3-2DF43091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EC67A-95FB-4483-86ED-D581530F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39135-0CD0-4A40-B9F5-9F6B375C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73809-DBF6-4C29-9117-369B0832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4C989-B590-4E86-A413-20501745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17D50-D56E-46B6-800F-DCBEA32F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8FF51-D7D2-47F9-93F0-F1E31F55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0A4E7-82C8-46FE-8D1C-329C20E4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F1D99-BD20-4BCB-A9AF-F51E7623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023D29-3741-4431-9596-43C84D5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737-1837-4CB7-8F53-FFF8B427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3D6D-A3C8-4308-A5A4-F8BB7962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1E245-D2D9-4D3A-A8C2-FC2F47C1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7105AC-CAFF-4713-A76F-032F6B25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63C3D-2270-493E-AADD-3019D65A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1E3F7-40D0-4794-B658-5BEF65E4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A0773-38CD-4975-9F2E-A8F60A1C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A6147-D582-4733-86C7-F286F614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695DE-0A95-47F6-923D-9BBA5F55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60842-B84A-4CBC-8DD1-FED1749F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620B67-19F9-4B0A-B389-B3240D14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06B5F-44AE-4972-8FAF-1A7E943E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E452-9EBA-4875-B28D-258955D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0C75A8-1797-4CE4-AD29-517563A0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751A69-81BA-4BDA-BFFB-3EC43A75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B206A-B9DD-4253-A014-9EA3585D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BF8FEF-3098-48A5-BDBA-D44054C6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FDEC03-1CED-4527-BF14-A2259E5A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2E610-27AB-455B-9BC1-D002A7D9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9ECE5-8959-4ECF-B15D-80CD2A4F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CA061-DFAF-4D8B-B2B4-F7A361CC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AD6E19-5560-4D52-90F7-839A706A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A0ED06-8F63-4ED4-A8FC-833215CA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7B15-3465-4C2C-9809-0E04F4AB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3CC433-D17A-4003-8C67-7A4B538A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B1D96-85F2-4CFB-855C-7D5345E1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6D195A-B0D3-4ED8-B30A-E50F57D8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29EBD9-100F-4EBD-9A86-7FC01820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F413FD-C3BF-45C0-8051-7B984291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940B66-8472-4762-B654-A178E2B8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B5EAF-1962-4630-BBE0-179987AD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187704-A44C-440F-8AA3-06D2E738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482AE-74D7-4649-9D8F-E0DFB2CC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34CA87-ED26-4A59-A447-47EE464A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D339-2F62-4E35-87A7-D1371D00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0DEB7-6B74-4768-82B5-F8721B27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83AFE4-D555-426C-8313-3D673708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22C057-38D3-4339-87DA-559D7D7C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435C85-2F44-4F50-ABD7-4D16BB12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9CE254-1D82-4130-8ED0-2E0C52E2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2DC37-EFD2-44B9-AFA2-EA33868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1975F2-E882-4DC1-BFD0-93A54F1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BBE9EB-2177-4030-9A13-720F690D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0E4129-8F78-4269-98B3-F2B2E17A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B1503-3EB6-4D7D-8EB8-61361C8E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D651-192B-40DA-9282-8B138B36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A9647E-1D94-4196-9E75-E2630DCA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B983AD-E6DE-4B2A-8486-C11486AE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BA78C5-7D44-4AAD-B446-A43359B9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C6C4C5-55FB-4A77-83AA-7D6A9895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4F7133-0B91-429E-AE29-5EC9E737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83EF07-33F5-4CD1-8CE9-4FB7249A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88EE2-F405-4D79-B096-2F953133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D0770-29C0-4D55-863D-7F6B08B7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7C30B-B64E-49B5-8093-14DA1DAA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23E8E8-EF7E-48F6-9A9E-BD1615B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F5FD-9B00-4A37-B26A-49DE50F9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4E2F1-2FE7-4852-BC8F-A290E104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88A831-2305-4DCD-B553-F8BBBE82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77F868-D2B2-484A-9851-D7A1FC1B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036C1E-BF7B-44A0-80D5-378B5612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291E12-0FE7-41B9-B884-F4B1BF9D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1FA7D3-4F10-476A-AFA5-2C05E690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E440DD-A35C-4DAD-AF49-1FB2C388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6F1751-3B01-4FF8-A898-1EB1F527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0274BE-D626-495E-89B8-C3AEB42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BC288D-8BDC-4BC3-948D-5F7B07F7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AE07-60EA-40BA-94AA-C9FDFF62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BD3A7B-6DA6-428B-914F-6F57F3D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6E63AB-2A6E-47EB-B9D1-75832F3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998EE2-113E-4DE0-9375-8DD5F412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562343-2FA8-430F-ABC2-F24B714C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931E1A-F93A-44A7-B265-97E43E00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D4770E-EFBA-4479-86B6-73F23A6C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957035-B0D2-4DEC-8F97-B5637DF8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1F441F-FDAD-40B3-A7E8-B3F7E0B1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A427C0-E579-4357-B6C0-715450A8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35A243-E144-4EDA-AF54-3B4D1537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9261-BF6E-456A-B907-1D9F8418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939359-BDEB-4188-8BC2-15C0B3CB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F27BCC-ECBE-4A75-A7CA-82D7D611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E9E32A-E371-4554-A390-B57EB906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8E0A0B-F7B7-49AC-861D-BE89A9F1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44D3CD-6CEC-435E-AE68-7AADA712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DA57DC-F0D1-43D2-A490-1C909526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211E2A-7503-4078-8460-4241EF21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F9846D-9E50-414F-8546-8C73FF79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48285B-E158-44F6-85F2-A062EB4E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0D72EF-2FD0-4751-B26A-8D96F861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33CE-4C0E-41A8-B5A7-F5BBDA1B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E41F13-F3C4-44D0-9469-19A681E4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ABF6DD-6871-4D36-98E9-20E236C6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34B20F-FA41-4337-8CD9-3A2863E3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EAFE71-2834-454C-B900-04B8F3D6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ACE963-4051-4B0F-A79C-B036498B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0DB6B2-049A-4600-A2CF-FC2CA1F5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079068-11F2-4F06-AF9A-36977B3D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9FC35B-43CF-4DA9-9D03-85771FAF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05154D-245A-4D4D-B218-D673A987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7AAE00-3A14-4D50-B14D-EB662A12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872A-2454-4F47-93A8-E35984BE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C58B2D-99AE-494E-B67C-1AD40661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A4AD08-4849-4AF8-BF42-6C2BC7D4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1AB670-2BBC-4B35-BB3B-C351DFD9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0D8F46-96BF-461B-ABF8-57B6D519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A587DF-8160-4C36-8011-8023CED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7C1C53-53EE-4832-8E81-AB6CE4E8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B6488C-6B2B-4F7E-8AEC-A7521B4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05D2C3-9334-45E6-9E42-2AD5BD42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DEB6AF-A435-43A4-8739-0325D825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22825A-A797-4DCD-9CC6-FADF9F2A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AAC-83FD-4479-9D39-F7581062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F8C0-4BCA-48E9-97EF-82EDCBB9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D906D2-D65D-4837-BA33-4B55DF97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E40AE6-FE85-4D13-B4CC-D17F9FE4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D25CD0-C353-4F6D-9AE8-8FEC345F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83FFBB-39AB-4F80-92F5-A1CF7FC9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1721EE-60BB-4875-AACB-59F01578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E023B3-CFE7-4DAA-B394-E1285BD8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43738E-54DC-45F9-AB1B-EC043C63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073437-BBE5-4412-91D1-6035ADFC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786287-AA48-4E3F-A264-BBCCC9A5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635E3A-4A70-400C-8541-104D21AC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98A76-B81A-4C7B-902C-A1599481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7A932D-0BF7-4C40-9E63-210E1E19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DDDE27-91ED-436E-9EA6-81DCDAD8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522F71-179A-480C-A004-8AC5851A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395958-AC5F-4EB0-B390-18D64BFA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544AB6-7216-446F-95C3-69EA686F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259F7E-D72A-4859-BC05-7CC55773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2EBEE1-6433-493B-A906-1C37609B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108A16-40A0-4DEC-8C3D-4B7F222A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77F4E7-DE8D-4467-8938-5F3AB499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C5FEA1-52FA-40F1-98AB-277825BF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DA51-BCCA-4730-AA8B-9C1600A2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5F1E0D-43C1-4332-B83B-D17C85EE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D6FBDB-63BF-45A2-B0F1-DFB911E4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4C91AF-5772-42CF-98A8-463966C7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D389BA-32D2-44CB-922F-2C0E0313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361FC5-9956-4DF6-98BF-D0568D57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131B17-A9AC-4839-95D5-159A024A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ADCDCA-D11C-4365-853A-97D8710E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DB6AE1-3580-468B-ACC4-7D7A8B23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E9C09F-EE38-4B6D-B09E-9D556768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24969D-83C2-41EA-A559-736106F5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9889-26DE-4D56-882F-B9D66B2C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3F42FB-11FA-46F2-A226-55EA3114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ADD17F-6A85-4EDC-8D3A-6A591764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1D2619-A38D-45EB-820B-0317044F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33699D-4E59-4CCE-A081-D789F3F4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1DF524-3E34-424B-A212-540D0FFB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865A34-12A1-4843-B039-68D0AFD9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D6DDDC-745D-48C2-8536-DD19AE75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01D0F6-9917-4C8B-90FE-7ED31081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06F940-982B-496F-B51C-C66DBE28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44F4F3-3329-4182-A530-3967D90B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0D7B-B809-4DFC-A308-7FF760E8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920A2E-9234-485C-AD6C-8EB2505D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45AA36-227C-46E2-AEF9-C36EB725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7E200D-1C1F-4FE9-AA0A-6E374C5E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F5FE43-0F90-454A-A8E1-1E6B1EEC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E18FFB-DB83-4736-B650-784C6BEA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4C0BC1-2998-4BCA-9B3C-3F25EA4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3E1682-D5C8-484B-A5C4-32B3233C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22C62A-9C27-4B9E-AB53-E4774CC0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03E087-26A6-4C7A-948F-30B26383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1F48D6-FAEA-43A9-8985-C69A6D1E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BFF4-A0BF-4BE2-A1F5-CFF64795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70EECF-E041-4545-B46D-F51018B5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A8307C-0751-473B-AFA3-46C7DD45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9CC4A8-9866-41CF-ADA8-53CF89CC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25DAA9-0F07-473B-9117-778719AD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6D762E-626A-43B4-9D0D-B8B739E8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8FE763-3AF0-4837-92D1-9519B7B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C108E8-CE95-46F7-8AB2-C7E1DF9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59DF00-1486-4D03-9FA7-201BDEB2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B8964B-D32D-4CFB-A6E9-8D03FC04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D5C0FD-3777-4DB7-9DFE-093BE9AA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2E564-6F86-4D35-9414-C798BD7A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885B48-8A1D-43F6-B012-ED61FC31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486478-AEB5-4603-AC22-2F67CC3E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42E49E-6A9F-470B-9966-21B42666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A0704F-AAB9-4CC6-9E6F-E904A6DD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9DFCBC-012B-4FCA-AE8F-C25E83C9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086EE8-10BA-4796-87AD-BCF7A1BA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AD4A7B-DAA1-40E7-9282-C184C31F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488124-435E-4972-B132-BAF33EE0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E73885-EF46-47F0-9192-808C7932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01F181-E7EB-4934-BC85-3E998C5C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757B7-C879-4B0F-B434-CF66F837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3BD47F-4DB5-4E84-953A-535DE39C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3ED7C2-37ED-4C2C-903D-071719D7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C6DB3B-6CD7-4D3C-A7B1-C9E10B21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48760-4E52-4DF4-A90A-816E0DDA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B07D-FCFD-4221-A3E5-B6E34215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CC7-C075-43FE-9CC1-2A60DBEC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21FCC-3908-4AA9-A75A-8125A454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50CBF-5F21-4735-9FFF-537BD760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57112-7DFE-4486-AB14-B7B50198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EDCE8-D074-46DA-AAE9-963BC201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66BA2-9785-448E-BF2E-A90177DA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CDFF-9B29-4735-B69A-34EBF00A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6470-9C11-4036-B2D6-CFE934B2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B7B25-D09C-42A6-BD81-FFD9B26A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CE90-201E-4367-9AD4-5A6514FF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7F24F-3A0B-4005-A072-2588C56D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437-27A4-4E0D-A8A8-7013BD87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A8693-A17D-4359-AEBD-73FE3C47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F5409-E565-4FAB-9126-B995CAE8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C02C1-47CE-435E-8F0C-1703DF5A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8183-D216-480B-92BE-51D21693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9836A-B8B2-48AA-8025-AAAA729E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97775-41BE-4ACF-A059-7D044BDF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2115B-4CB1-48CA-88B4-1280C111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10310-46D6-4387-9BCB-517B011E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5964F-EA2A-42F7-B762-F7D9A48F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D2B87-C40C-4D06-9414-E3DACA35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893-6F3A-41CB-A5E0-FD262CC0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218DE-684E-4747-B914-163F3619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F6B54-2A60-4E14-A677-7A9D543E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81448-F761-4CA7-8FFC-7B3F7BB7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5538E-3D82-4BC2-8903-E3128605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46B6F-3481-460D-8944-88859FCF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8D5A9-75BC-4B97-B558-789F2D9C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4F8CA-41FC-44D1-B4A0-E3459A42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A01CB-EA19-4073-A0DF-84A448A5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D76BD-43F6-483F-AFE9-2E30C5B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905C8-58F0-4EFC-8901-B43B355F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86B-4ED3-4281-BA02-0575C9C3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4FD43-841F-4E88-870D-312908D2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9DD46-A9EE-4538-A997-E4700C01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1AF11-E96E-4518-AF23-218C22BA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0A03D-191E-43A9-9461-BF32CBF0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CFED6-FFF5-4589-A923-BEB9FC66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4C069-C672-4DC0-95DE-9F81895A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639B9-4026-458E-A89A-C8E5C532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CA437-3E7E-47D4-BE59-78D6AC3A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B5584-728E-4099-9574-C4CC65D3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57313-960E-4F70-A486-64B86F3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1D9-2E8E-416C-93CC-0485011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7D7D3-FD52-499B-B1CB-6F24D62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94863-13A1-4276-A7E0-DC2AC516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C2012-71C2-49D5-BA6E-3A9B8C97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B9FB7-3BCB-494B-A1B1-B8F3AF8F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1A348-0B54-4F73-83C4-FAE48470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9E535-BF4D-4846-B879-F4BC9E5A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25623-A5FE-43C6-BCFE-8D80929B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88A33-16EF-4686-B7F8-9454F3E7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1B66D-3475-45D0-AE9D-ADF86217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83AC7-59DA-492B-AD27-1DDF8C58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0FC-8BAB-4124-A671-F12E111E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2212-C9A8-4ACE-9463-3571B971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60194-9A2D-42FC-8C78-BC0F057C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3F517-CC83-4F06-8DC3-4C8984A4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DF690-0718-44C9-88AE-396C9866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C8018-658D-4E15-B6BE-B8E72E96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EFFAC-B577-468E-97A9-C7388CA0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E6C82-570A-43C3-88F4-05B9FAC8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8A6ED-DCD8-4FD9-980F-AE69AF99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0BF19-BF33-4B5C-A575-CC99783D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0BA38-C85A-4CF1-B7F8-BDA442B7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79F4-86E0-4E6B-979A-BC65615C1F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C985-F2AA-419D-ADB1-05533CD414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0F21-E33B-4F9F-85E3-B4C0F7F5FF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ACED-5CAF-440F-8D05-34F3685DDF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E0B3-352F-4634-86AB-09AD7F0B04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7D91-656F-469E-9229-414C3BF17E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DE6C-CC0F-47FA-82A1-530ECC4FA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1F52-A1E5-40C6-842C-776D8F44FB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7BF8-34E1-472E-9EE2-91DFBC293B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5C75-D0B0-4037-BB0F-23B7606BD4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50A1-7A78-4FED-9269-88324369FD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DDEF-4EE3-42B3-AE9F-2CBF12678B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AE44-738B-4F7D-97C5-3FEA7D44DC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4832-A07A-489A-A8E6-D4C499D711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D877-928D-4E7F-AD2F-EBE81A1F0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23B0-B49B-4812-AF41-74F081DCC0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A2C4-1FE1-47DC-B862-02D60353C9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6B00-77B1-457B-8BD1-3A5D91F7C9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F505-CE49-4DCF-BD39-13D6F8498D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C5BD-0639-41EB-90B8-DDB5687249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4C10-63B2-4605-8D84-7752A1F703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595C-8E43-4234-9EC4-D762E828D3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6A94-71D4-4F9C-AD0E-F6CE882190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FFDC-0BC4-42D2-B3F2-862D07874A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F79B-B5E0-4E5B-A3CE-0ACDE79070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9DF1-DCD7-4DE9-91BB-E8BEE80E01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A85F-3646-46E5-93B0-0568985716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F4CE-73D8-4D34-A780-079F3D58B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74A-FE80-44CC-843F-7165F6D160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AC53-53AE-4333-827F-2A916DCB7E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924B-4875-45CD-B6C4-1160BEFD0B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7F89-9E1F-4016-A893-769F548D6B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54F3-B0E5-443F-B545-1D4966DC52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EEDB-22F5-45B7-89B8-452CA044C1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8F8C-F6A6-4C35-9AC6-38BC511CC9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F15D-1D62-4CE3-B3A1-F8BC17E258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2067-C31F-45B1-91FC-18DACF5EE0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1859-B997-4BDF-903D-04A655442B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517D-A599-4A94-98D5-6E7E3A418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91EC-C98E-4874-9A0C-9B9E17DE68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479F-73E6-4731-8F93-7CA4BCBD6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C47F-D3EE-49BF-8DF1-BBF83C4263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CD86-5CF7-41E9-B577-7B3603E2D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9309-D870-467D-BD44-F9BF1C4F68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38A0-3108-42D3-8667-EEFDD76BE7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2AC0-A7C4-4647-B8F8-F4EBD3039D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DAA4-8DD4-4C89-97CD-D653034152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9FB6-06CE-4A6F-AA72-F55C2054FF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D11D-D68A-4640-AA68-7735075F39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3524-15B3-4A11-8A5E-61BB73C534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19160" y="2252520"/>
            <a:ext cx="89056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6737" descr=""/>
          <p:cNvPicPr/>
          <p:nvPr/>
        </p:nvPicPr>
        <p:blipFill>
          <a:blip r:embed="rId1"/>
          <a:stretch/>
        </p:blipFill>
        <p:spPr>
          <a:xfrm>
            <a:off x="76320" y="1495440"/>
            <a:ext cx="8991360" cy="38671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6738"/>
          <p:cNvSpPr/>
          <p:nvPr/>
        </p:nvSpPr>
        <p:spPr>
          <a:xfrm>
            <a:off x="8244000" y="148428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571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24960" cy="943200"/>
          </a:xfrm>
          <a:prstGeom prst="rect">
            <a:avLst/>
          </a:prstGeom>
          <a:ln w="0">
            <a:noFill/>
          </a:ln>
        </p:spPr>
      </p:pic>
      <p:pic>
        <p:nvPicPr>
          <p:cNvPr id="1453" name="图片 115714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7934400" cy="187632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5715"/>
          <p:cNvSpPr/>
          <p:nvPr/>
        </p:nvSpPr>
        <p:spPr>
          <a:xfrm>
            <a:off x="8317080" y="184464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4689" descr=""/>
          <p:cNvPicPr/>
          <p:nvPr/>
        </p:nvPicPr>
        <p:blipFill>
          <a:blip r:embed="rId1"/>
          <a:stretch/>
        </p:blipFill>
        <p:spPr>
          <a:xfrm>
            <a:off x="138240" y="1733400"/>
            <a:ext cx="8867520" cy="339120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4690"/>
          <p:cNvSpPr/>
          <p:nvPr/>
        </p:nvSpPr>
        <p:spPr>
          <a:xfrm>
            <a:off x="8317080" y="2276640"/>
            <a:ext cx="35856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3665" descr=""/>
          <p:cNvPicPr/>
          <p:nvPr/>
        </p:nvPicPr>
        <p:blipFill>
          <a:blip r:embed="rId1"/>
          <a:stretch/>
        </p:blipFill>
        <p:spPr>
          <a:xfrm>
            <a:off x="138240" y="2062080"/>
            <a:ext cx="8867520" cy="273384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3666"/>
          <p:cNvSpPr/>
          <p:nvPr/>
        </p:nvSpPr>
        <p:spPr>
          <a:xfrm>
            <a:off x="8244000" y="198900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2641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848800" cy="571500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2642"/>
          <p:cNvSpPr/>
          <p:nvPr/>
        </p:nvSpPr>
        <p:spPr>
          <a:xfrm>
            <a:off x="8317080" y="83664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1617" descr=""/>
          <p:cNvPicPr/>
          <p:nvPr/>
        </p:nvPicPr>
        <p:blipFill>
          <a:blip r:embed="rId1"/>
          <a:stretch/>
        </p:blipFill>
        <p:spPr>
          <a:xfrm>
            <a:off x="380880" y="2905200"/>
            <a:ext cx="8382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0593" descr=""/>
          <p:cNvPicPr/>
          <p:nvPr/>
        </p:nvPicPr>
        <p:blipFill>
          <a:blip r:embed="rId1"/>
          <a:stretch/>
        </p:blipFill>
        <p:spPr>
          <a:xfrm>
            <a:off x="166680" y="1638360"/>
            <a:ext cx="8810640" cy="358128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0594"/>
          <p:cNvSpPr/>
          <p:nvPr/>
        </p:nvSpPr>
        <p:spPr>
          <a:xfrm>
            <a:off x="8317080" y="357336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09569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839440" cy="573408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09570"/>
          <p:cNvSpPr/>
          <p:nvPr/>
        </p:nvSpPr>
        <p:spPr>
          <a:xfrm>
            <a:off x="2627280" y="4095720"/>
            <a:ext cx="136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09571"/>
          <p:cNvSpPr/>
          <p:nvPr/>
        </p:nvSpPr>
        <p:spPr>
          <a:xfrm>
            <a:off x="4865760" y="4838760"/>
            <a:ext cx="136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09572"/>
          <p:cNvSpPr/>
          <p:nvPr/>
        </p:nvSpPr>
        <p:spPr>
          <a:xfrm>
            <a:off x="1360440" y="5991120"/>
            <a:ext cx="3067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08545" descr=""/>
          <p:cNvPicPr/>
          <p:nvPr/>
        </p:nvPicPr>
        <p:blipFill>
          <a:blip r:embed="rId1"/>
          <a:stretch/>
        </p:blipFill>
        <p:spPr>
          <a:xfrm>
            <a:off x="19080" y="1409760"/>
            <a:ext cx="9105840" cy="403848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08546"/>
          <p:cNvSpPr/>
          <p:nvPr/>
        </p:nvSpPr>
        <p:spPr>
          <a:xfrm>
            <a:off x="6249960" y="1859040"/>
            <a:ext cx="698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08547"/>
          <p:cNvSpPr/>
          <p:nvPr/>
        </p:nvSpPr>
        <p:spPr>
          <a:xfrm>
            <a:off x="3840120" y="3154320"/>
            <a:ext cx="5158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08548"/>
          <p:cNvSpPr/>
          <p:nvPr/>
        </p:nvSpPr>
        <p:spPr>
          <a:xfrm>
            <a:off x="8555040" y="4021200"/>
            <a:ext cx="5158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08549"/>
          <p:cNvSpPr/>
          <p:nvPr/>
        </p:nvSpPr>
        <p:spPr>
          <a:xfrm>
            <a:off x="1154160" y="4506840"/>
            <a:ext cx="313056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08550"/>
          <p:cNvSpPr/>
          <p:nvPr/>
        </p:nvSpPr>
        <p:spPr>
          <a:xfrm>
            <a:off x="7373880" y="4602240"/>
            <a:ext cx="698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07521" descr=""/>
          <p:cNvPicPr/>
          <p:nvPr/>
        </p:nvPicPr>
        <p:blipFill>
          <a:blip r:embed="rId1"/>
          <a:stretch/>
        </p:blipFill>
        <p:spPr>
          <a:xfrm>
            <a:off x="104760" y="1623960"/>
            <a:ext cx="8934480" cy="361008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07522"/>
          <p:cNvSpPr/>
          <p:nvPr/>
        </p:nvSpPr>
        <p:spPr>
          <a:xfrm>
            <a:off x="5154480" y="3944880"/>
            <a:ext cx="6987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07523"/>
          <p:cNvSpPr/>
          <p:nvPr/>
        </p:nvSpPr>
        <p:spPr>
          <a:xfrm>
            <a:off x="3421080" y="4373640"/>
            <a:ext cx="5472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07524"/>
          <p:cNvSpPr/>
          <p:nvPr/>
        </p:nvSpPr>
        <p:spPr>
          <a:xfrm>
            <a:off x="468360" y="4821120"/>
            <a:ext cx="69840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114480" y="1509840"/>
            <a:ext cx="8915400" cy="38383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8317080" y="371628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06497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677080" cy="2981520"/>
          </a:xfrm>
          <a:prstGeom prst="rect">
            <a:avLst/>
          </a:prstGeom>
          <a:ln w="0">
            <a:noFill/>
          </a:ln>
        </p:spPr>
      </p:pic>
      <p:pic>
        <p:nvPicPr>
          <p:cNvPr id="1479" name="图片 106498" descr=""/>
          <p:cNvPicPr/>
          <p:nvPr/>
        </p:nvPicPr>
        <p:blipFill>
          <a:blip r:embed="rId2"/>
          <a:stretch/>
        </p:blipFill>
        <p:spPr>
          <a:xfrm>
            <a:off x="468360" y="3753000"/>
            <a:ext cx="8315280" cy="310500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06499"/>
          <p:cNvSpPr/>
          <p:nvPr/>
        </p:nvSpPr>
        <p:spPr>
          <a:xfrm>
            <a:off x="4183200" y="4649760"/>
            <a:ext cx="8935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06500"/>
          <p:cNvSpPr/>
          <p:nvPr/>
        </p:nvSpPr>
        <p:spPr>
          <a:xfrm>
            <a:off x="7802640" y="5526000"/>
            <a:ext cx="8935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06501"/>
          <p:cNvSpPr/>
          <p:nvPr/>
        </p:nvSpPr>
        <p:spPr>
          <a:xfrm>
            <a:off x="934920" y="5983200"/>
            <a:ext cx="8938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06502"/>
          <p:cNvSpPr/>
          <p:nvPr/>
        </p:nvSpPr>
        <p:spPr>
          <a:xfrm>
            <a:off x="1801800" y="6421320"/>
            <a:ext cx="4714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12595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81880" cy="5676840"/>
          </a:xfrm>
          <a:prstGeom prst="rect">
            <a:avLst/>
          </a:prstGeom>
          <a:ln w="0">
            <a:noFill/>
          </a:ln>
        </p:spPr>
      </p:pic>
      <p:sp>
        <p:nvSpPr>
          <p:cNvPr id="1485" name="矩形 125954"/>
          <p:cNvSpPr/>
          <p:nvPr/>
        </p:nvSpPr>
        <p:spPr>
          <a:xfrm>
            <a:off x="3801960" y="1096920"/>
            <a:ext cx="18496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25955"/>
          <p:cNvSpPr/>
          <p:nvPr/>
        </p:nvSpPr>
        <p:spPr>
          <a:xfrm>
            <a:off x="5411880" y="1535040"/>
            <a:ext cx="2905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25956"/>
          <p:cNvSpPr/>
          <p:nvPr/>
        </p:nvSpPr>
        <p:spPr>
          <a:xfrm>
            <a:off x="3706920" y="1992240"/>
            <a:ext cx="2904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25957"/>
          <p:cNvSpPr/>
          <p:nvPr/>
        </p:nvSpPr>
        <p:spPr>
          <a:xfrm>
            <a:off x="5078520" y="2859120"/>
            <a:ext cx="35971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25958"/>
          <p:cNvSpPr/>
          <p:nvPr/>
        </p:nvSpPr>
        <p:spPr>
          <a:xfrm>
            <a:off x="696960" y="3287880"/>
            <a:ext cx="18493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25959"/>
          <p:cNvSpPr/>
          <p:nvPr/>
        </p:nvSpPr>
        <p:spPr>
          <a:xfrm>
            <a:off x="5316480" y="5487840"/>
            <a:ext cx="69840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25960"/>
          <p:cNvSpPr/>
          <p:nvPr/>
        </p:nvSpPr>
        <p:spPr>
          <a:xfrm>
            <a:off x="3745080" y="5935680"/>
            <a:ext cx="3348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26977" descr=""/>
          <p:cNvPicPr/>
          <p:nvPr/>
        </p:nvPicPr>
        <p:blipFill>
          <a:blip r:embed="rId1"/>
          <a:stretch/>
        </p:blipFill>
        <p:spPr>
          <a:xfrm>
            <a:off x="138240" y="1614600"/>
            <a:ext cx="8867520" cy="362880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26978"/>
          <p:cNvSpPr/>
          <p:nvPr/>
        </p:nvSpPr>
        <p:spPr>
          <a:xfrm>
            <a:off x="3059280" y="3811680"/>
            <a:ext cx="698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26979"/>
          <p:cNvSpPr/>
          <p:nvPr/>
        </p:nvSpPr>
        <p:spPr>
          <a:xfrm>
            <a:off x="3363840" y="4221000"/>
            <a:ext cx="25034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26980"/>
          <p:cNvSpPr/>
          <p:nvPr/>
        </p:nvSpPr>
        <p:spPr>
          <a:xfrm>
            <a:off x="4726080" y="4724280"/>
            <a:ext cx="344628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28001" descr=""/>
          <p:cNvPicPr/>
          <p:nvPr/>
        </p:nvPicPr>
        <p:blipFill>
          <a:blip r:embed="rId1"/>
          <a:stretch/>
        </p:blipFill>
        <p:spPr>
          <a:xfrm>
            <a:off x="157320" y="1523880"/>
            <a:ext cx="8829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29025" descr=""/>
          <p:cNvPicPr/>
          <p:nvPr/>
        </p:nvPicPr>
        <p:blipFill>
          <a:blip r:embed="rId1"/>
          <a:stretch/>
        </p:blipFill>
        <p:spPr>
          <a:xfrm>
            <a:off x="371520" y="1933560"/>
            <a:ext cx="84009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130049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81880" cy="3953160"/>
          </a:xfrm>
          <a:prstGeom prst="rect">
            <a:avLst/>
          </a:prstGeom>
          <a:ln w="0">
            <a:noFill/>
          </a:ln>
        </p:spPr>
      </p:pic>
      <p:pic>
        <p:nvPicPr>
          <p:cNvPr id="1499" name="图片 130050" descr=""/>
          <p:cNvPicPr/>
          <p:nvPr/>
        </p:nvPicPr>
        <p:blipFill>
          <a:blip r:embed="rId2"/>
          <a:stretch/>
        </p:blipFill>
        <p:spPr>
          <a:xfrm>
            <a:off x="324000" y="4676760"/>
            <a:ext cx="8343720" cy="218124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30051"/>
          <p:cNvSpPr/>
          <p:nvPr/>
        </p:nvSpPr>
        <p:spPr>
          <a:xfrm>
            <a:off x="6364440" y="1192320"/>
            <a:ext cx="698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30052"/>
          <p:cNvSpPr/>
          <p:nvPr/>
        </p:nvSpPr>
        <p:spPr>
          <a:xfrm>
            <a:off x="4049640" y="1639800"/>
            <a:ext cx="69840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30053"/>
          <p:cNvSpPr/>
          <p:nvPr/>
        </p:nvSpPr>
        <p:spPr>
          <a:xfrm>
            <a:off x="3002040" y="2954160"/>
            <a:ext cx="57466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30054"/>
          <p:cNvSpPr/>
          <p:nvPr/>
        </p:nvSpPr>
        <p:spPr>
          <a:xfrm>
            <a:off x="906480" y="3402000"/>
            <a:ext cx="39528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30055"/>
          <p:cNvSpPr/>
          <p:nvPr/>
        </p:nvSpPr>
        <p:spPr>
          <a:xfrm>
            <a:off x="3106800" y="3849840"/>
            <a:ext cx="57466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30056"/>
          <p:cNvSpPr/>
          <p:nvPr/>
        </p:nvSpPr>
        <p:spPr>
          <a:xfrm>
            <a:off x="934920" y="4268880"/>
            <a:ext cx="11890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30057"/>
          <p:cNvSpPr/>
          <p:nvPr/>
        </p:nvSpPr>
        <p:spPr>
          <a:xfrm>
            <a:off x="696960" y="5554800"/>
            <a:ext cx="5675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30058"/>
          <p:cNvSpPr/>
          <p:nvPr/>
        </p:nvSpPr>
        <p:spPr>
          <a:xfrm>
            <a:off x="1049400" y="6431040"/>
            <a:ext cx="65469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图片 131073" descr=""/>
          <p:cNvPicPr/>
          <p:nvPr/>
        </p:nvPicPr>
        <p:blipFill>
          <a:blip r:embed="rId1"/>
          <a:stretch/>
        </p:blipFill>
        <p:spPr>
          <a:xfrm>
            <a:off x="181080" y="1171440"/>
            <a:ext cx="87818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图片 132097" descr=""/>
          <p:cNvPicPr/>
          <p:nvPr/>
        </p:nvPicPr>
        <p:blipFill>
          <a:blip r:embed="rId1"/>
          <a:stretch/>
        </p:blipFill>
        <p:spPr>
          <a:xfrm>
            <a:off x="442800" y="928800"/>
            <a:ext cx="8258400" cy="5000400"/>
          </a:xfrm>
          <a:prstGeom prst="rect">
            <a:avLst/>
          </a:prstGeom>
          <a:ln w="0">
            <a:noFill/>
          </a:ln>
        </p:spPr>
      </p:pic>
      <p:sp>
        <p:nvSpPr>
          <p:cNvPr id="1510" name="矩形 132098"/>
          <p:cNvSpPr/>
          <p:nvPr/>
        </p:nvSpPr>
        <p:spPr>
          <a:xfrm>
            <a:off x="2335320" y="906480"/>
            <a:ext cx="8683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32099"/>
          <p:cNvSpPr/>
          <p:nvPr/>
        </p:nvSpPr>
        <p:spPr>
          <a:xfrm>
            <a:off x="763560" y="1830240"/>
            <a:ext cx="782640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32100"/>
          <p:cNvSpPr/>
          <p:nvPr/>
        </p:nvSpPr>
        <p:spPr>
          <a:xfrm>
            <a:off x="611280" y="2276640"/>
            <a:ext cx="7826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32101"/>
          <p:cNvSpPr/>
          <p:nvPr/>
        </p:nvSpPr>
        <p:spPr>
          <a:xfrm>
            <a:off x="573120" y="2716200"/>
            <a:ext cx="817560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32102"/>
          <p:cNvSpPr/>
          <p:nvPr/>
        </p:nvSpPr>
        <p:spPr>
          <a:xfrm>
            <a:off x="601560" y="3630600"/>
            <a:ext cx="8175600" cy="6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132103"/>
          <p:cNvSpPr/>
          <p:nvPr/>
        </p:nvSpPr>
        <p:spPr>
          <a:xfrm>
            <a:off x="858960" y="4334040"/>
            <a:ext cx="7826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32104"/>
          <p:cNvSpPr/>
          <p:nvPr/>
        </p:nvSpPr>
        <p:spPr>
          <a:xfrm>
            <a:off x="849240" y="4838760"/>
            <a:ext cx="7826400" cy="6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32105"/>
          <p:cNvSpPr/>
          <p:nvPr/>
        </p:nvSpPr>
        <p:spPr>
          <a:xfrm>
            <a:off x="887400" y="5553000"/>
            <a:ext cx="7826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3905" descr=""/>
          <p:cNvPicPr/>
          <p:nvPr/>
        </p:nvPicPr>
        <p:blipFill>
          <a:blip r:embed="rId1"/>
          <a:stretch/>
        </p:blipFill>
        <p:spPr>
          <a:xfrm>
            <a:off x="76320" y="1486080"/>
            <a:ext cx="8991360" cy="38862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3906"/>
          <p:cNvSpPr/>
          <p:nvPr/>
        </p:nvSpPr>
        <p:spPr>
          <a:xfrm>
            <a:off x="8317080" y="148428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2881" descr=""/>
          <p:cNvPicPr/>
          <p:nvPr/>
        </p:nvPicPr>
        <p:blipFill>
          <a:blip r:embed="rId1"/>
          <a:stretch/>
        </p:blipFill>
        <p:spPr>
          <a:xfrm>
            <a:off x="57240" y="1200240"/>
            <a:ext cx="9029520" cy="445752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2882"/>
          <p:cNvSpPr/>
          <p:nvPr/>
        </p:nvSpPr>
        <p:spPr>
          <a:xfrm>
            <a:off x="8317080" y="177336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1857" descr=""/>
          <p:cNvPicPr/>
          <p:nvPr/>
        </p:nvPicPr>
        <p:blipFill>
          <a:blip r:embed="rId1"/>
          <a:stretch/>
        </p:blipFill>
        <p:spPr>
          <a:xfrm>
            <a:off x="147600" y="1509840"/>
            <a:ext cx="8848800" cy="3838320"/>
          </a:xfrm>
          <a:prstGeom prst="rect">
            <a:avLst/>
          </a:prstGeom>
          <a:ln w="0">
            <a:noFill/>
          </a:ln>
        </p:spPr>
      </p:pic>
      <p:pic>
        <p:nvPicPr>
          <p:cNvPr id="1440" name="图片 121858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5543640" cy="33336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1859"/>
          <p:cNvSpPr/>
          <p:nvPr/>
        </p:nvSpPr>
        <p:spPr>
          <a:xfrm>
            <a:off x="5508720" y="321300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0833" descr=""/>
          <p:cNvPicPr/>
          <p:nvPr/>
        </p:nvPicPr>
        <p:blipFill>
          <a:blip r:embed="rId1"/>
          <a:stretch/>
        </p:blipFill>
        <p:spPr>
          <a:xfrm>
            <a:off x="47520" y="1814400"/>
            <a:ext cx="9048960" cy="322920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0834"/>
          <p:cNvSpPr/>
          <p:nvPr/>
        </p:nvSpPr>
        <p:spPr>
          <a:xfrm>
            <a:off x="8244000" y="234936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19809" descr=""/>
          <p:cNvPicPr/>
          <p:nvPr/>
        </p:nvPicPr>
        <p:blipFill>
          <a:blip r:embed="rId1"/>
          <a:stretch/>
        </p:blipFill>
        <p:spPr>
          <a:xfrm>
            <a:off x="81000" y="1557360"/>
            <a:ext cx="8982000" cy="374328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19810"/>
          <p:cNvSpPr/>
          <p:nvPr/>
        </p:nvSpPr>
        <p:spPr>
          <a:xfrm>
            <a:off x="8244000" y="2637000"/>
            <a:ext cx="35856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18785" descr=""/>
          <p:cNvPicPr/>
          <p:nvPr/>
        </p:nvPicPr>
        <p:blipFill>
          <a:blip r:embed="rId1"/>
          <a:stretch/>
        </p:blipFill>
        <p:spPr>
          <a:xfrm>
            <a:off x="81000" y="1743120"/>
            <a:ext cx="8982000" cy="337176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18786"/>
          <p:cNvSpPr/>
          <p:nvPr/>
        </p:nvSpPr>
        <p:spPr>
          <a:xfrm>
            <a:off x="8244000" y="234936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17761" descr=""/>
          <p:cNvPicPr/>
          <p:nvPr/>
        </p:nvPicPr>
        <p:blipFill>
          <a:blip r:embed="rId1"/>
          <a:stretch/>
        </p:blipFill>
        <p:spPr>
          <a:xfrm>
            <a:off x="114480" y="2076480"/>
            <a:ext cx="8915400" cy="270504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17762"/>
          <p:cNvSpPr/>
          <p:nvPr/>
        </p:nvSpPr>
        <p:spPr>
          <a:xfrm>
            <a:off x="8317080" y="2133720"/>
            <a:ext cx="3585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3:14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